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16D-3C72-4160-91FF-625378D6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1DE-6A26-4B04-964E-95DA1ED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B2C-1D80-4B76-850F-A2E3CAA8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07E-2E16-418F-8AAB-E229CA0A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CBF8-2E5C-4BCA-9E2A-A7EA05C5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3D5D-453B-4C8B-80D0-91A4F4E3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5862-D01B-46AD-9A32-5258AF4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E5A-AF4F-48C1-BD9E-6E0510FC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90F-192B-487B-AB69-A4143647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87D-2FAD-4E01-A31E-73FFF39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67A2-82D4-4810-B112-91EBDEC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196-D19E-4A6B-8B4B-07808B91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463-9A16-460B-8897-A5BBC83D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FAEE-5D8A-4885-B042-84E476F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3916-DE94-44FD-9949-65EA8E2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4D4E-036E-448A-B293-11E7E996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2B26-FB98-4C75-AF9A-71705AAB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6B5-F561-4B29-BF6D-1B269E6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F1C-AE94-45D6-9A93-25EC28F4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539-E9F2-4C7C-8E7D-BC1EDC4D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E01-DF23-4F99-BEFA-C979DB2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7A6-CB71-417F-A5EC-E0BB828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309-82DB-46A8-8E9E-DB2BE26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498-C3ED-45C8-AB46-F5012AF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545-E45B-418E-B313-203FEBDB76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F5E-D338-4472-A7A4-F09C8EA916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8964720" cy="1609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Что мы знаем о числах великанах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Comic Sans MS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результате наших исследований, у нас получилась эта презентаци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а тема очень важна при изучении математики, она развивает мышление и фантаз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cc00"/>
                </a:solidFill>
                <a:latin typeface="Comic Sans MS"/>
              </a:rPr>
              <a:t>Для сокращения записи больших чисел давно используется система величин, в которой каждая из последующих в тысячу раз больше предыдуще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единиц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просто тысяч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тысяч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м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м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биллион ( или миллиар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б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тр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ь сброьт "/>
          <p:cNvPicPr/>
          <p:nvPr/>
        </p:nvPicPr>
        <p:blipFill>
          <a:blip r:embed="rId1"/>
          <a:stretch/>
        </p:blipFill>
        <p:spPr>
          <a:xfrm>
            <a:off x="7164360" y="4724280"/>
            <a:ext cx="13431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тр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квадриллио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квадриллионов-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1 квин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квин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секс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секс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сеп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сеп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окт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окт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нониллио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нон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– 1 децилли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000 дециллионов</a:t>
            </a: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- ундецилли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солнце"/>
          <p:cNvPicPr/>
          <p:nvPr/>
        </p:nvPicPr>
        <p:blipFill>
          <a:blip r:embed="rId1"/>
          <a:stretch/>
        </p:blipFill>
        <p:spPr>
          <a:xfrm>
            <a:off x="6227640" y="4221000"/>
            <a:ext cx="2519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cc"/>
                </a:solidFill>
                <a:uFillTx/>
                <a:latin typeface="Comic Sans MS"/>
              </a:rPr>
              <a:t>МИЛЛИАР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13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Слово </a:t>
            </a:r>
            <a:r>
              <a:rPr b="1" lang="ru-RU" sz="2400" spc="-1" strike="noStrike">
                <a:solidFill>
                  <a:srgbClr val="00cc00"/>
                </a:solidFill>
                <a:latin typeface="Comic Sans MS"/>
              </a:rPr>
              <a:t>„миллиард"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употребляется у нас в смысле тысячи миллионов и при денежных вычислениях и в точных науках. Но, например, в Германии и в Америке под миллиардом иногда имеют ввиду не тысячу, а всего сто миллион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Этим, между прочим, можно объяснить то, что слово „миллиардер" было в ходу за океаном еще тогда, когда ни один из тамошних богачей не имел состояния в тысячу миллионов. Огромное состояние Рокфеллера не­задолго до войны исчислялось „всего" 900 миллионов долларов, а остальных „миллиардеров"-меньшими чи­слами. Только во время войны появились в Америке миллиардеры в нашем смысле слова (их иногда называют на родине „биллионерами"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ученый"/>
          <p:cNvPicPr/>
          <p:nvPr/>
        </p:nvPicPr>
        <p:blipFill>
          <a:blip r:embed="rId1"/>
          <a:stretch/>
        </p:blipFill>
        <p:spPr>
          <a:xfrm>
            <a:off x="6588000" y="5445000"/>
            <a:ext cx="150336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696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0033cc"/>
                </a:solidFill>
                <a:latin typeface="Comic Sans MS"/>
              </a:rPr>
              <a:t>Чтобы составить себе представление об огромности миллиарда, представьте себе, что в книжке в 200 страниц не более 200.000 букв. </a:t>
            </a:r>
            <a:r>
              <a:rPr b="1" lang="ru-RU" sz="2600" spc="-1" strike="noStrike">
                <a:solidFill>
                  <a:srgbClr val="00cc00"/>
                </a:solidFill>
                <a:latin typeface="Comic Sans MS"/>
              </a:rPr>
              <a:t>В пяти таких книжках окажется один миллион букв. А миллиард букв будет заключать в себе стопка из 5.000 экземпляров такой  книжки. Стопка, которая, будучи аккуратно сложена, составила бы столб высотой с Исаакиевский собор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ru-RU" sz="2600" spc="-1" strike="noStrike">
                <a:solidFill>
                  <a:srgbClr val="ff0066"/>
                </a:solidFill>
                <a:latin typeface="Comic Sans MS"/>
              </a:rPr>
              <a:t>Миллиард секунд часы отобьют более чем в 30 лет (точнее в 31,7 лет). А миллиард минут составляет более 19 столетий; человечество всего 29 апреля 1902 года в 10 часов 40 минут  начало считать второй миллиард минут от первого дня нашего летосчислени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часы"/>
          <p:cNvPicPr/>
          <p:nvPr/>
        </p:nvPicPr>
        <p:blipFill>
          <a:blip r:embed="rId1"/>
          <a:stretch/>
        </p:blipFill>
        <p:spPr>
          <a:xfrm>
            <a:off x="7020000" y="4940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нига1"/>
          <p:cNvPicPr/>
          <p:nvPr/>
        </p:nvPicPr>
        <p:blipFill>
          <a:blip r:embed="rId2"/>
          <a:stretch/>
        </p:blipFill>
        <p:spPr>
          <a:xfrm>
            <a:off x="7308720" y="220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62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cc"/>
                </a:solidFill>
                <a:uFillTx/>
                <a:latin typeface="Comic Sans MS"/>
              </a:rPr>
              <a:t>БИЛЛИОН и ТРИЛЛИ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cc00"/>
                </a:solidFill>
                <a:latin typeface="Comic Sans MS"/>
              </a:rPr>
              <a:t>Ощутить огромность этих числовых исполинов трудно даже человеку, опытному в обращении с миллионами.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еликан – миллион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- такой же карлик рядом со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сверхвеликаном биллионо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как единица рядом с миллионом. Об этом взаимоотношении мы забываем и не делаем в своем воображении большой разницы между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миллионом, биллионом и триллионом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722ab"/>
                </a:solidFill>
                <a:latin typeface="Comic Sans MS"/>
              </a:rPr>
              <a:t>Волос, увеличенный по толщине в биллион раз, был бы раз в 8 шире земного шара, а муха при таком увеличении была бы в 70 раз толще Солнц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астроном"/>
          <p:cNvPicPr/>
          <p:nvPr/>
        </p:nvPicPr>
        <p:blipFill>
          <a:blip r:embed="rId1"/>
          <a:stretch/>
        </p:blipFill>
        <p:spPr>
          <a:xfrm>
            <a:off x="7308720" y="4581360"/>
            <a:ext cx="1274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Взаимоотношение между миллионом, биллионом и триллионом можно с некоторою наглядностью представить следующим   образом.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В Санкт – Петербурге  еще  недавно  было миллион жителей. Представьте себе длинный прямой ряд городов таких как Санкт – Петербург ,целый миллион их: в этой цепи столиц, тянущихся на семь миллионов километров (в 20 раз дальше Луны) будет насчитываться биллион жителей..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60eac"/>
                </a:solidFill>
                <a:latin typeface="Comic Sans MS"/>
              </a:rPr>
              <a:t>Теперь вообразите, что перед вами не один такой ряд городов, а целый миллион рядов, т.е. квадрат, каждая сторона которого состоит из миллиона Санкт – Петербургов  и, который внутри сплошь уставлен такими городами: в этом квадрате будет триллион ж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полоска2"/>
          <p:cNvPicPr/>
          <p:nvPr/>
        </p:nvPicPr>
        <p:blipFill>
          <a:blip r:embed="rId1"/>
          <a:stretch/>
        </p:blipFill>
        <p:spPr>
          <a:xfrm>
            <a:off x="1835280" y="5445000"/>
            <a:ext cx="5715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696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дним триллионом кирпичей можно было бы, размещая их плотным слоем по твердой поверхности земного шара, покрыть все материки равномерным сплошным пластом высотою с четырехэтажный дом (16 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Comic Sans MS"/>
              </a:rPr>
              <a:t>Если бы все видимые в сильнейшие телескопы звезды обоих небесных полушарий, т. е. не менее 500 миллионов звезд- были   обитаемы   и   населены   каждая, как   наша Земля,   то   на  всех  этих звездах, вместе взятых, насчитывался бы только один  триллион  людей.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глобус"/>
          <p:cNvPicPr/>
          <p:nvPr/>
        </p:nvPicPr>
        <p:blipFill>
          <a:blip r:embed="rId1"/>
          <a:stretch/>
        </p:blipFill>
        <p:spPr>
          <a:xfrm>
            <a:off x="7093080" y="1844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человек"/>
          <p:cNvPicPr/>
          <p:nvPr/>
        </p:nvPicPr>
        <p:blipFill>
          <a:blip r:embed="rId2"/>
          <a:stretch/>
        </p:blipFill>
        <p:spPr>
          <a:xfrm>
            <a:off x="7093080" y="4941720"/>
            <a:ext cx="15714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4883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400"/>
                </a:solidFill>
                <a:latin typeface="Comic Sans MS"/>
              </a:rPr>
              <a:t>Интересные сведения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радиус Земли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6 400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площадь земного шара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510 млн. кв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среднее расстояние от Земли до Солнца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150 млн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диаметр нашей Галактики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 85 тыс. световых л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 световой год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= 9 трлн. 500 млрд. к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мерно 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 млн. дней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минул со дня открытия первых Олимпийских игр в Древней Греции (776 г. до н.э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 начала нашей эры прошло более </a:t>
            </a: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миллиарда секунд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шар"/>
          <p:cNvPicPr/>
          <p:nvPr/>
        </p:nvPicPr>
        <p:blipFill>
          <a:blip r:embed="rId1"/>
          <a:stretch/>
        </p:blipFill>
        <p:spPr>
          <a:xfrm>
            <a:off x="7093080" y="508464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карандаш"/>
          <p:cNvPicPr/>
          <p:nvPr/>
        </p:nvPicPr>
        <p:blipFill>
          <a:blip r:embed="rId2"/>
          <a:stretch/>
        </p:blipFill>
        <p:spPr>
          <a:xfrm>
            <a:off x="0" y="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35:09Z</dcterms:created>
  <dc:creator>Лелик</dc:creator>
  <dc:description/>
  <dc:language>en-US</dc:language>
  <cp:lastModifiedBy>26552</cp:lastModifiedBy>
  <dcterms:modified xsi:type="dcterms:W3CDTF">2010-05-31T12:21:49Z</dcterms:modified>
  <cp:revision>22</cp:revision>
  <dc:subject/>
  <dc:title>Формула «сложных процентов» и применение её к решению задач</dc:title>
</cp:coreProperties>
</file>